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327-A117-4608-8BD5-F3CC9CEB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1DF-8BA8-43E0-B593-DDEDBB33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0F6-788E-456A-93D4-38F4CC8A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C4A-7DEF-4F41-B776-7BA2501A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243-7532-4486-8DE1-B58D0304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3D0-8183-4A60-BF86-20E846B4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564-B746-4669-B1A1-70B911F6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75F-34A6-4179-8BF7-3F738723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5078-17B5-44D5-BC55-697C8F71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CD3-4773-46DF-A546-22675CEF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98A-7B21-45FC-B2B6-EC30D23C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C3F-108B-4B39-B294-571EA2F6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C541B-A37F-4122-A1D8-A7FFA674C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3166560"/>
            <a:ext cx="203832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1219320" y="304920"/>
            <a:ext cx="6858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At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228600" y="4000680"/>
            <a:ext cx="3200400" cy="285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3505320" y="3263760"/>
            <a:ext cx="53974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57200" y="457200"/>
            <a:ext cx="815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wis Dot Dia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valence electrons are so important to the behavior of an atom, it is useful to represent them with symbols. 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wis Dot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dots for each electron in the atom.  Each dot represents one valence electr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62120" y="3200400"/>
            <a:ext cx="74674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     Be     B     C     N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      F       N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4"/>
          <p:cNvSpPr/>
          <p:nvPr/>
        </p:nvSpPr>
        <p:spPr>
          <a:xfrm>
            <a:off x="160020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5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6"/>
          <p:cNvSpPr/>
          <p:nvPr/>
        </p:nvSpPr>
        <p:spPr>
          <a:xfrm>
            <a:off x="3352680" y="3657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7"/>
          <p:cNvSpPr/>
          <p:nvPr/>
        </p:nvSpPr>
        <p:spPr>
          <a:xfrm>
            <a:off x="4038480" y="3581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8"/>
          <p:cNvSpPr/>
          <p:nvPr/>
        </p:nvSpPr>
        <p:spPr>
          <a:xfrm>
            <a:off x="44197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9"/>
          <p:cNvSpPr/>
          <p:nvPr/>
        </p:nvSpPr>
        <p:spPr>
          <a:xfrm>
            <a:off x="480060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594360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624852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58672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548640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7010280" y="3581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73915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7772400" y="3429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777240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73915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9144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11430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14479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22"/>
          <p:cNvSpPr/>
          <p:nvPr/>
        </p:nvSpPr>
        <p:spPr>
          <a:xfrm>
            <a:off x="14479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1066680" y="5410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68580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25146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27432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297180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259092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30"/>
          <p:cNvSpPr/>
          <p:nvPr/>
        </p:nvSpPr>
        <p:spPr>
          <a:xfrm>
            <a:off x="23623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31"/>
          <p:cNvSpPr/>
          <p:nvPr/>
        </p:nvSpPr>
        <p:spPr>
          <a:xfrm>
            <a:off x="23623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32"/>
          <p:cNvSpPr/>
          <p:nvPr/>
        </p:nvSpPr>
        <p:spPr>
          <a:xfrm>
            <a:off x="4495680" y="4572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33"/>
          <p:cNvSpPr/>
          <p:nvPr/>
        </p:nvSpPr>
        <p:spPr>
          <a:xfrm>
            <a:off x="4724280" y="4572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34"/>
          <p:cNvSpPr/>
          <p:nvPr/>
        </p:nvSpPr>
        <p:spPr>
          <a:xfrm>
            <a:off x="525780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35"/>
          <p:cNvSpPr/>
          <p:nvPr/>
        </p:nvSpPr>
        <p:spPr>
          <a:xfrm>
            <a:off x="52578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val 36"/>
          <p:cNvSpPr/>
          <p:nvPr/>
        </p:nvSpPr>
        <p:spPr>
          <a:xfrm>
            <a:off x="480060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37"/>
          <p:cNvSpPr/>
          <p:nvPr/>
        </p:nvSpPr>
        <p:spPr>
          <a:xfrm>
            <a:off x="457200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38"/>
          <p:cNvSpPr/>
          <p:nvPr/>
        </p:nvSpPr>
        <p:spPr>
          <a:xfrm>
            <a:off x="411480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39"/>
          <p:cNvSpPr/>
          <p:nvPr/>
        </p:nvSpPr>
        <p:spPr>
          <a:xfrm>
            <a:off x="41148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the number of protons and electrons are not equa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the atom becomes an 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atom with more or fewer electrons than protons.  This leads to an atom with an electric charge, either positive (+) or negative (-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an atom gives up electrons to another atom.  It then becomes positive because there are more protons than electrons.  For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has 11 protons and 11 electrons in neutral state.  But Na has 1 valence electron and wants only 8, so it gives one up…so Na as 11+ protons and 10- electrons, leading to a positive charge of +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362320" y="4394160"/>
            <a:ext cx="41907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91960" y="257040"/>
            <a:ext cx="81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other example is that of Li (lithium), which in neutral state has 3 protons, 4 neutrons, and 3 electr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2438280" y="1981080"/>
            <a:ext cx="121932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68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P, 4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828800" y="21337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886200" y="23623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2895480" y="388620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15"/>
          <p:cNvSpPr/>
          <p:nvPr/>
        </p:nvSpPr>
        <p:spPr>
          <a:xfrm>
            <a:off x="1905120" y="1523880"/>
            <a:ext cx="2209680" cy="213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6"/>
          <p:cNvSpPr/>
          <p:nvPr/>
        </p:nvSpPr>
        <p:spPr>
          <a:xfrm>
            <a:off x="1676520" y="1295280"/>
            <a:ext cx="2743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2760480" y="39704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3200400" y="39625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5105520" y="4800600"/>
            <a:ext cx="304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480060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7086600" y="2133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P, 4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6705720" y="1981080"/>
            <a:ext cx="121896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6172200" y="1447920"/>
            <a:ext cx="2209680" cy="21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8229600" y="251460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6095880" y="23623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7038000" y="368136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2289240" y="437508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P=3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7020720" y="408636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P≠2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0"/>
          <p:cNvSpPr/>
          <p:nvPr/>
        </p:nvSpPr>
        <p:spPr>
          <a:xfrm>
            <a:off x="1583280" y="5375160"/>
            <a:ext cx="64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itively charged atoms are calle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and have more prot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 electr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57200" y="533520"/>
            <a:ext cx="8001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, an atom can accept electrons from other atoms, thereby becoming negatively charged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 Fluorine (F) has 9 protons, 10 neutrons, and 9 electrons in its neutral state.  It has 7 valence electrons.  It wants 8 valence electrons, so it steals one from another atom to have 10 electr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1752480" y="4038480"/>
            <a:ext cx="121932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905120" y="41148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1219320" y="3581280"/>
            <a:ext cx="2209680" cy="213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914400" y="3276720"/>
            <a:ext cx="2743200" cy="26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895480" y="388620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1143000" y="426708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1752480" y="32767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2819520" y="3429000"/>
            <a:ext cx="304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3581280" y="46483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2895480" y="571500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1600200" y="57913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762120" y="4724280"/>
            <a:ext cx="304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1066680" y="365760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4419720" y="6095880"/>
            <a:ext cx="304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20"/>
          <p:cNvSpPr/>
          <p:nvPr/>
        </p:nvSpPr>
        <p:spPr>
          <a:xfrm flipH="1" flipV="1">
            <a:off x="3428640" y="548604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373392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6629400" y="380988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23"/>
          <p:cNvSpPr/>
          <p:nvPr/>
        </p:nvSpPr>
        <p:spPr>
          <a:xfrm>
            <a:off x="6248520" y="3733920"/>
            <a:ext cx="121896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24"/>
          <p:cNvSpPr/>
          <p:nvPr/>
        </p:nvSpPr>
        <p:spPr>
          <a:xfrm>
            <a:off x="5715000" y="3276720"/>
            <a:ext cx="2209680" cy="21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Oval 25"/>
          <p:cNvSpPr/>
          <p:nvPr/>
        </p:nvSpPr>
        <p:spPr>
          <a:xfrm>
            <a:off x="5486400" y="2971800"/>
            <a:ext cx="2743200" cy="26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52"/>
          <p:cNvSpPr/>
          <p:nvPr/>
        </p:nvSpPr>
        <p:spPr>
          <a:xfrm>
            <a:off x="5638680" y="411480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4"/>
          <p:cNvSpPr/>
          <p:nvPr/>
        </p:nvSpPr>
        <p:spPr>
          <a:xfrm>
            <a:off x="7772400" y="41911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55"/>
          <p:cNvSpPr/>
          <p:nvPr/>
        </p:nvSpPr>
        <p:spPr>
          <a:xfrm>
            <a:off x="8001000" y="46483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56"/>
          <p:cNvSpPr/>
          <p:nvPr/>
        </p:nvSpPr>
        <p:spPr>
          <a:xfrm>
            <a:off x="7620120" y="5334120"/>
            <a:ext cx="30456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57"/>
          <p:cNvSpPr/>
          <p:nvPr/>
        </p:nvSpPr>
        <p:spPr>
          <a:xfrm>
            <a:off x="6324480" y="5562720"/>
            <a:ext cx="304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58"/>
          <p:cNvSpPr/>
          <p:nvPr/>
        </p:nvSpPr>
        <p:spPr>
          <a:xfrm>
            <a:off x="5562720" y="5105520"/>
            <a:ext cx="30456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9"/>
          <p:cNvSpPr/>
          <p:nvPr/>
        </p:nvSpPr>
        <p:spPr>
          <a:xfrm>
            <a:off x="5410080" y="3657600"/>
            <a:ext cx="304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60"/>
          <p:cNvSpPr/>
          <p:nvPr/>
        </p:nvSpPr>
        <p:spPr>
          <a:xfrm>
            <a:off x="6019920" y="3124080"/>
            <a:ext cx="304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61"/>
          <p:cNvSpPr/>
          <p:nvPr/>
        </p:nvSpPr>
        <p:spPr>
          <a:xfrm>
            <a:off x="6934320" y="2895480"/>
            <a:ext cx="304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62"/>
          <p:cNvSpPr/>
          <p:nvPr/>
        </p:nvSpPr>
        <p:spPr>
          <a:xfrm>
            <a:off x="7848720" y="3429000"/>
            <a:ext cx="304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63"/>
          <p:cNvSpPr/>
          <p:nvPr/>
        </p:nvSpPr>
        <p:spPr>
          <a:xfrm>
            <a:off x="609480" y="6324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tom that has more electrons than protons is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4"/>
          <p:cNvSpPr/>
          <p:nvPr/>
        </p:nvSpPr>
        <p:spPr>
          <a:xfrm>
            <a:off x="1939680" y="60199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  9P=9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65"/>
          <p:cNvSpPr/>
          <p:nvPr/>
        </p:nvSpPr>
        <p:spPr>
          <a:xfrm>
            <a:off x="6403320" y="56260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9P≠10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figure out the number of electrons in an 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0880" y="1066680"/>
            <a:ext cx="8305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tom is positively charged, the ion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ions are 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tom is negatively charged, the ion i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ons are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04920" y="3560760"/>
            <a:ext cx="8229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tom is an anion (-), the atomic number plus the charge equals the number of electr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# +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# elec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5"/>
          <p:cNvSpPr/>
          <p:nvPr/>
        </p:nvSpPr>
        <p:spPr>
          <a:xfrm flipH="1">
            <a:off x="3352320" y="45720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6"/>
          <p:cNvSpPr/>
          <p:nvPr/>
        </p:nvSpPr>
        <p:spPr>
          <a:xfrm flipH="1">
            <a:off x="3200040" y="62485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04920" y="527040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tom is a cation (+), the atomic number minus the charge equals the number of electr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#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# elec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0" y="228600"/>
            <a:ext cx="86104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533520" y="457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249920" y="79524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 the Lewis Dot Diagrams fo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85800" y="14479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04920" y="23353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many protons, neutrons, and electrons do each of the following hav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80880" y="3581280"/>
            <a:ext cx="8382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to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wis dot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026"/>
          <p:cNvSpPr/>
          <p:nvPr/>
        </p:nvSpPr>
        <p:spPr>
          <a:xfrm>
            <a:off x="304920" y="457200"/>
            <a:ext cx="85341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number of neutrons change, then the new element is an isotope of the original el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has 6 protons, therefore its atomic number is 6.  Carbon has 6 neutrons in its natural state, so 6 protons + 6 neutrons equals 12, so carbons atomic mass is 12.  However, once in a while carbon has 8 neutrons, so 6 protons + 8 neutrons equals 14, so this new carbon, known as carbon-14, has an atomic mass of 14.  Carbon-14 is an isotope of carb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27" descr=""/>
          <p:cNvPicPr/>
          <p:nvPr/>
        </p:nvPicPr>
        <p:blipFill>
          <a:blip r:embed="rId1"/>
          <a:stretch/>
        </p:blipFill>
        <p:spPr>
          <a:xfrm>
            <a:off x="2590920" y="3914640"/>
            <a:ext cx="6553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6" descr=""/>
          <p:cNvPicPr/>
          <p:nvPr/>
        </p:nvPicPr>
        <p:blipFill>
          <a:blip r:embed="rId1"/>
          <a:stretch/>
        </p:blipFill>
        <p:spPr>
          <a:xfrm>
            <a:off x="5867280" y="3965400"/>
            <a:ext cx="3276720" cy="2892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8" descr=""/>
          <p:cNvPicPr/>
          <p:nvPr/>
        </p:nvPicPr>
        <p:blipFill>
          <a:blip r:embed="rId2"/>
          <a:stretch/>
        </p:blipFill>
        <p:spPr>
          <a:xfrm>
            <a:off x="0" y="0"/>
            <a:ext cx="7924680" cy="3921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30"/>
          <p:cNvSpPr/>
          <p:nvPr/>
        </p:nvSpPr>
        <p:spPr>
          <a:xfrm>
            <a:off x="685800" y="464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opes of Hydro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27" descr=""/>
          <p:cNvPicPr/>
          <p:nvPr/>
        </p:nvPicPr>
        <p:blipFill>
          <a:blip r:embed="rId1"/>
          <a:stretch/>
        </p:blipFill>
        <p:spPr>
          <a:xfrm>
            <a:off x="5791320" y="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29" descr=""/>
          <p:cNvPicPr/>
          <p:nvPr/>
        </p:nvPicPr>
        <p:blipFill>
          <a:blip r:embed="rId2"/>
          <a:stretch/>
        </p:blipFill>
        <p:spPr>
          <a:xfrm>
            <a:off x="0" y="2608200"/>
            <a:ext cx="769608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30"/>
          <p:cNvSpPr/>
          <p:nvPr/>
        </p:nvSpPr>
        <p:spPr>
          <a:xfrm>
            <a:off x="609480" y="762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opes of Carb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228600"/>
            <a:ext cx="82296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learn more about how energy levels (or orbitals) fill later.  Now, the most important piece of information you can take home about the electrons in the outermost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s in the outer level of an atom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ence electr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re these valence electrons important?  Because these are the electrons that will interact with other electrons in other atoms to form compounds, which you will learn about short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514600" y="3605040"/>
            <a:ext cx="48006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3581952" presetSubtype="1306314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3581952" presetSubtype="1306314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3581952" presetSubtype="1306314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26"/>
          <p:cNvSpPr/>
          <p:nvPr/>
        </p:nvSpPr>
        <p:spPr>
          <a:xfrm>
            <a:off x="380880" y="609480"/>
            <a:ext cx="8229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you know how many valence electrons an atom has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periodic table.  All elements in group 1 have 1 valence electron.  All elements in group 2 have 2 valence electrons.  Group 3A has 3 valence electrons, Group 4A has 4 valence electrons, Group 5A has 5 valence electrons, Group 6A has 6 valence electrons, Group 7A has 7 valence electrons, and Group 8A has 8 valence electr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027" descr=""/>
          <p:cNvPicPr/>
          <p:nvPr/>
        </p:nvPicPr>
        <p:blipFill>
          <a:blip r:embed="rId1"/>
          <a:stretch/>
        </p:blipFill>
        <p:spPr>
          <a:xfrm>
            <a:off x="1143000" y="3424320"/>
            <a:ext cx="71629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3582336" presetSubtype="1306320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3582336" presetSubtype="1306320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6387840" cy="3797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80880" y="457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rawing Lewis Dot Structures, start with one dot on the top and work your way a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971800" y="1905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5"/>
          <p:cNvSpPr/>
          <p:nvPr/>
        </p:nvSpPr>
        <p:spPr>
          <a:xfrm>
            <a:off x="3200400" y="1828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6"/>
          <p:cNvSpPr/>
          <p:nvPr/>
        </p:nvSpPr>
        <p:spPr>
          <a:xfrm>
            <a:off x="3809880" y="2133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7"/>
          <p:cNvSpPr/>
          <p:nvPr/>
        </p:nvSpPr>
        <p:spPr>
          <a:xfrm>
            <a:off x="34290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8"/>
          <p:cNvSpPr/>
          <p:nvPr/>
        </p:nvSpPr>
        <p:spPr>
          <a:xfrm>
            <a:off x="28195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9"/>
          <p:cNvSpPr/>
          <p:nvPr/>
        </p:nvSpPr>
        <p:spPr>
          <a:xfrm>
            <a:off x="3429000" y="1828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3809880" y="2362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32004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12"/>
          <p:cNvSpPr/>
          <p:nvPr/>
        </p:nvSpPr>
        <p:spPr>
          <a:xfrm>
            <a:off x="281952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5:28:46Z</dcterms:created>
  <dc:creator>Staff</dc:creator>
  <dc:description/>
  <dc:language>en-US</dc:language>
  <cp:lastModifiedBy>Staff</cp:lastModifiedBy>
  <dcterms:modified xsi:type="dcterms:W3CDTF">2014-03-24T17:11:09Z</dcterms:modified>
  <cp:revision>4</cp:revision>
  <dc:subject/>
  <dc:title>PowerPoint Presentation</dc:title>
</cp:coreProperties>
</file>